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825-BE74-4029-B2DF-BB3C0D3A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6375-CB31-45FE-A263-0861EB2A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308-4DCB-4E9B-8C98-BDCDA1A6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C16-1E93-4C55-8FAF-74C9B3E9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E1EF-9D81-4ED0-ACEC-47350403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0DD8-A953-4AF7-A446-0BABDA05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E4AE-801B-4118-A110-5D1CE79D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FBD5-22E1-4993-BD6C-EF28B8B8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849D-A138-4F9B-952B-AEA68A09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002C-BFA3-4904-9CBC-C2DF546A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7133-FA2B-454A-84EA-C952B339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C79-1BED-42F5-9024-69AF908D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1206-F2AE-485B-A482-5DDF224F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B634-B1F2-462D-8223-E6963595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4D74-D31B-4CFD-89CE-9C182F63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3D12-7289-4DE0-B2CF-C8DD54C1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A406-620C-473C-A177-EC348CFB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F4802-6A44-4797-AB7C-0D7CF77E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90218-B606-428A-AE08-5ED36F70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2C33E-2827-4887-8CAB-EA740D2B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E70E7-3E7B-4AB5-BF2D-397F5884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C87C7-BF9D-4D62-B0BD-00CF33A2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B7D-784D-4142-8027-78D45234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18D5C-9310-4B78-9D34-75A6AA23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30A37-E840-43B9-B0E4-DE0566EF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15840-197C-46A1-A26C-ECD7107E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3CC1B-F0C1-4D33-B405-11A770C5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99B7A-9EA3-471D-BBD9-D08C496E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2C560-EC32-4F68-B747-5EA8AEE3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21952-CA65-4E8E-AF32-828BD0D9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963D9-F208-4231-92FA-93308984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4A81F-6314-45FA-89DB-52CFA1DF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A9920-9AF7-4C1D-88CE-48EA0265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8E3-4F8B-48A3-8EDF-AB9ACFAF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B15C8-720E-4DC4-B9E8-C5AB518F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7FBBB-E6C0-47FF-9B0A-0DCC6441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1677B-A144-48CE-81E6-BFAAA5D5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5D320-895D-4C59-8DFF-30C46D26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D47EB-A193-46FA-AEB9-8817265D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5ACC8-26AC-41FB-AF86-BDBE8EC8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538D9-390A-45B3-9D8E-B9E5C47F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9B8ED-7B2D-43F0-BBBF-6AAF2076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14E5A-D922-4F1C-8E37-6F68E85F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7C2E6-2743-43D6-8042-E6083C7A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A726-3A44-43CA-BF56-493F4AEC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ED5C4-05D4-4128-A675-DB79D9A5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D170D-CDBD-4D97-92A1-CD5EA41A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24D01-42E9-458A-9B8B-CA712C26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CAA0D-7DDA-4C94-9F2D-8472AC66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A3151-A307-40FB-93E1-771B81E0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019A9-7FE8-4287-9678-A4D5FF93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71996-2269-4685-BBBA-013B212F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EBEDD-27C0-444A-9B11-2DB9A254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90E56-3FE9-46CE-97E7-2B3CC37A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D3CEC-3B72-4A9C-96A8-AD692608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E28C-B3EB-43AF-86E0-E3FBCE2A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A2C78-59CC-4FB6-817A-E273BBC9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2C5B-E1C3-4886-98FB-5182681C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D702-9E33-4B58-9B15-699AF787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26B4-DD95-423F-9D8D-07DFEC7C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B711-FF5B-42C9-9205-46D2A21BFB3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B6DD-B2F2-40DE-80E6-67FE8C1E5E3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2DE0-AA86-4051-8AA1-AD53C6D10EB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C4FB-5154-419E-9541-23A0CAFA205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95AC-6DFE-47DA-80CD-58E564324C5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Interstate Relations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ection Summar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do States make interstate compact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purpose of the Full Faith and Credit Claus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xtradi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nd what is its purpos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purpose of the Privileges and Immunities Claus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terstate Compac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30280"/>
            <a:ext cx="8183520" cy="4803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 the Constitution it states:  No State may enter into any treaty, alliance, or confede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ever, the States may, with the consent of Congress, enter into </a:t>
            </a:r>
            <a:r>
              <a:rPr b="1" lang="en-US" sz="2600" spc="-1" strike="noStrike">
                <a:solidFill>
                  <a:srgbClr val="b45f07"/>
                </a:solidFill>
                <a:latin typeface="Verdana"/>
              </a:rPr>
              <a:t>interstate compacts</a:t>
            </a:r>
            <a:r>
              <a:rPr b="0" lang="en-US" sz="2600" spc="-1" strike="noStrike">
                <a:solidFill>
                  <a:srgbClr val="b45f07"/>
                </a:solidFill>
                <a:latin typeface="Verdana"/>
              </a:rPr>
              <a:t>—agreements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ong themselves and with foreign stat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re than 200 compacts are now in force, and range in a variety of uses from sharing law-enforcement data to resource development and conservation.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ull Faith and Credi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762120"/>
            <a:ext cx="818352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1900" spc="-1" strike="noStrike">
                <a:solidFill>
                  <a:srgbClr val="b45f07"/>
                </a:solidFill>
                <a:latin typeface="Verdana"/>
              </a:rPr>
              <a:t>Full Faith and Credit Clause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of the Constitution ensures that States recognize the laws and, documents, and court proceedings of the other State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Examples:  Court rulings made by other states, marriage certificates, car titles, birth/death certificate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re are two exceptions to the clause though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1) One State cannot enforce another State’s criminal laws. And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2) Full faith and credit need not be given to certain divorces granted by one State to residents of another State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case of the quickie divorce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Extradi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5f07"/>
                </a:solidFill>
                <a:latin typeface="Verdana"/>
              </a:rPr>
              <a:t>Extradi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s the legal process by which a fugitive from justice in one State is returned to that Sta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dition is upheld through Article IV, Section 2, Clause 2 of the Constit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vernors are the State executives that handle the extradition proc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governor is unwilling to return a fugitive to a State, federal courts can intervene and order that governor to do 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rivileges and Immuniti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57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200" spc="-1" strike="noStrike">
                <a:solidFill>
                  <a:srgbClr val="b45f07"/>
                </a:solidFill>
                <a:latin typeface="Verdana"/>
              </a:rPr>
              <a:t>Privileges and Immunities Clause</a:t>
            </a:r>
            <a:r>
              <a:rPr b="0" lang="en-US" sz="2200" spc="-1" strike="noStrike">
                <a:solidFill>
                  <a:srgbClr val="b45f07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s that no State can draw unreasonable distinctions between its own residents and those persons who happen to live in other St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es cannot, for example, pay lower welfare benefits to newly arrived residents than it does to its long-term residents,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aen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o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1999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ever, States can draw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reasonab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tinctions between its own residents and those of other space, such as, charging a higher fee for hunting/fishing licenses or charging out-of-State residents higher tuition for State universities than in-State resid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eciprocit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nesota has ongoing </a:t>
            </a:r>
            <a:r>
              <a:rPr b="0" lang="en-US" sz="2800" spc="-1" strike="noStrike">
                <a:solidFill>
                  <a:srgbClr val="b45f07"/>
                </a:solidFill>
                <a:latin typeface="Verdana"/>
              </a:rPr>
              <a:t>reciprocit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reements with Wisconsin, North Dakota, South Dakota, one institution in Iowa, and the Canadian province of Manitoba. The agreements reduce non-resident tuition prices and eliminate non-resident admissions barriers for residents of each state who attend a public institution in the other st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2:30:44Z</dcterms:created>
  <dc:creator>hberndt</dc:creator>
  <dc:description/>
  <dc:language>en-US</dc:language>
  <cp:lastModifiedBy>hberndt</cp:lastModifiedBy>
  <dcterms:modified xsi:type="dcterms:W3CDTF">2010-02-24T19:06:20Z</dcterms:modified>
  <cp:revision>6</cp:revision>
  <dc:subject/>
  <dc:title>Interstate Relations</dc:title>
</cp:coreProperties>
</file>